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12.png" ContentType="image/png"/>
  <Override PartName="/ppt/media/image49.jpeg" ContentType="image/jpeg"/>
  <Override PartName="/ppt/media/image48.jpeg" ContentType="image/jpeg"/>
  <Override PartName="/ppt/media/image8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38.jpeg" ContentType="image/jpeg"/>
  <Override PartName="/ppt/media/image50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4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9FC-159F-4125-A2BA-5A968FD6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C52-6308-4523-970D-7B8C83ED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53F-8172-4355-AEB1-D6E3F89B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416-6CD8-4A39-84AB-9328296B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74CB-31E1-4641-A17C-F0B96705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DFF9-F6D1-4861-8874-923F6315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2D56-BCB3-48C7-93AB-967430C4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57F4-C6B5-4DC7-9E21-BE208B3C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D87E-F91C-41E6-B449-23CC4D31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A4ED-0488-4BE9-857E-EDD31E80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B8EC-E3B9-4D2D-B5BE-FE98449F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87E-B79B-4952-B369-998A0496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D46D-FA3D-45EA-AEC3-78C281B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9B6D-6C39-44F9-91A6-0CAAD42F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ABA4-F8CB-4E31-BAB1-050D9E7D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36E2-D634-4233-8F3E-E77F7F88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1DF1-561D-4993-B23A-76F3F0FD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7620-2DAE-499F-8171-B57C1F5F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9962C-903E-401F-9FA8-6725DDA4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23FB-E529-41AB-8434-798967F0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3E77-030D-471C-804B-5066BD55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B98F-C2DC-40D2-A284-A16F5685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C32-04DE-4FE2-BC16-1AB19D31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264E-2899-4D21-BA70-95DBDE95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0ED8-8CF4-4F1F-965A-24B3C915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88E8-766C-4317-B059-2D9EFC3B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03E71-734B-456C-AA25-07DC2B23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836A-E054-4466-9677-A3D4C49F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4930B-EE2B-46B6-85DD-84686364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B288-112D-41BD-B40D-5A0E19F4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8E8C-1063-4051-9FCE-D5A470D7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8552-2B77-4B0C-B106-70878BC2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E8AAC-28A6-497D-A85D-4B5DF13E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57F-8354-423B-89CB-1A90936A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3515-D3C1-4FA8-8015-A87FA50D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3B71D-F581-4362-9B19-2904DFB1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AC9D4-B861-4E64-A961-6DEC1F5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C94F0-6F7A-4C07-90F9-DEAA4A76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5E4F-8C45-4C89-9756-9E0C6DCC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344F-CBCB-4B49-92F4-B6360783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FBCD5-CE76-4862-9655-D81BC058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DC35-2869-4C78-9F0D-809C87F4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8B51-33DE-431A-9E2A-673307CC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B17-C6BD-40E1-88E7-235EDE92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577-937C-4A79-B0B3-59A48FFC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A9B-A0B4-42B0-9EF1-092D766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CD1-BAE3-4DEF-96D3-8FDC92BD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63D-E231-4460-908B-6140BE4B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A664-B4A4-4C4E-B523-B60E43B5883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0E98-D811-4566-A33A-5BDE469D666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8010-03E2-407A-923C-E96069B9A7C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EC8E-6500-4D91-ABEE-15F2B18C1E7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C:\Users\User\Desktop\9.png"/>
          <p:cNvPicPr/>
          <p:nvPr/>
        </p:nvPicPr>
        <p:blipFill>
          <a:blip r:embed="rId1"/>
          <a:stretch/>
        </p:blipFill>
        <p:spPr>
          <a:xfrm>
            <a:off x="0" y="2722680"/>
            <a:ext cx="4876920" cy="413532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2" descr=""/>
          <p:cNvPicPr/>
          <p:nvPr/>
        </p:nvPicPr>
        <p:blipFill>
          <a:blip r:embed="rId2"/>
          <a:stretch/>
        </p:blipFill>
        <p:spPr>
          <a:xfrm>
            <a:off x="79200" y="1170000"/>
            <a:ext cx="9064800" cy="18223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5257800" y="6324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241600" y="5241600"/>
            <a:ext cx="390204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Monotype Corsiva"/>
              </a:rPr>
              <a:t>Преподаватель ГБПОУ «ГК г. Сызрани» - Киреева Марина Владимировн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689040" y="-55440"/>
            <a:ext cx="8229600" cy="1549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пециальные программы, которые используются злоумышленниками для проникновения в операционную систему через ее уязвимые, незащищенные места. Используются для проникновения программ, которые воруют информацию, необходимую для получения прав доступа к компьютер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5" descr="4kYDKFmaCnc"/>
          <p:cNvPicPr/>
          <p:nvPr/>
        </p:nvPicPr>
        <p:blipFill>
          <a:blip r:embed="rId2"/>
          <a:stretch/>
        </p:blipFill>
        <p:spPr>
          <a:xfrm>
            <a:off x="2895480" y="3657600"/>
            <a:ext cx="3353040" cy="2236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689040" y="-55440"/>
            <a:ext cx="8229600" cy="1549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5998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редоносная программа, осуществляющая контроль над браузером пользователя и направляющая его на фальшивые сайты злоумышленника. Во «внутренности» браузера эти паразиты попадают при помощи троянов и червей. При этом будут отображаться только фальшивые сайты, даже если адрес был введен правильн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1" name="Picture 4" descr="pharming-y-phising-3-638"/>
          <p:cNvPicPr/>
          <p:nvPr/>
        </p:nvPicPr>
        <p:blipFill>
          <a:blip r:embed="rId2"/>
          <a:stretch/>
        </p:blipFill>
        <p:spPr>
          <a:xfrm>
            <a:off x="2743200" y="3581280"/>
            <a:ext cx="3352680" cy="2517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969840" y="-49320"/>
            <a:ext cx="7107480" cy="15001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Антивирусная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а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(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антивирус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, средство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антивирусной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защиты, средство обнаружения вредоносных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) — специализированная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а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для обнаружения компьютерных вирусов, а также нежелательных (считающихся вредоносными)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программ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и восстановления заражённых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Picture 4" descr="img15"/>
          <p:cNvPicPr/>
          <p:nvPr/>
        </p:nvPicPr>
        <p:blipFill>
          <a:blip r:embed="rId2"/>
          <a:stretch/>
        </p:blipFill>
        <p:spPr>
          <a:xfrm>
            <a:off x="2743200" y="3733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/>
          <p:cNvSpPr/>
          <p:nvPr/>
        </p:nvSpPr>
        <p:spPr>
          <a:xfrm>
            <a:off x="533520" y="5105520"/>
            <a:ext cx="6094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993600" y="6480"/>
            <a:ext cx="7229520" cy="1444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219320" y="19047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Детекторные программы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Лечебные программы (доктора), или фаг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 для ревизии (ревизоры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 фильтрации (фильтры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 вакцинации, или программы иммунизац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609480" y="5791320"/>
            <a:ext cx="762120" cy="609480"/>
          </a:xfrm>
          <a:custGeom>
            <a:avLst/>
            <a:gdLst>
              <a:gd name="textAreaLeft" fmla="*/ 177480 w 762120"/>
              <a:gd name="textAreaRight" fmla="*/ 584280 w 76212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Users\User\Desktop\1.jpg"/>
          <p:cNvPicPr/>
          <p:nvPr/>
        </p:nvPicPr>
        <p:blipFill>
          <a:blip r:embed="rId1"/>
          <a:stretch/>
        </p:blipFill>
        <p:spPr>
          <a:xfrm>
            <a:off x="5334120" y="30178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6720" y="1176480"/>
            <a:ext cx="8382240" cy="34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ограммы-детекторы осуществляют поиск характерной для конкретного вируса сигнатуры в оперативной памяти и в файлах и при обнаружении выдают соответствующее сообщение. Недостатком таких антивирусных программ является то, что они могут находить только те вирусы, которые известны разработчикам таких програм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:\Users\User\Desktop\3.jpg"/>
          <p:cNvPicPr/>
          <p:nvPr/>
        </p:nvPicPr>
        <p:blipFill>
          <a:blip r:embed="rId1"/>
          <a:stretch/>
        </p:blipFill>
        <p:spPr>
          <a:xfrm>
            <a:off x="4338720" y="2082960"/>
            <a:ext cx="4775040" cy="477504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2" descr=""/>
          <p:cNvPicPr/>
          <p:nvPr/>
        </p:nvPicPr>
        <p:blipFill>
          <a:blip r:embed="rId2"/>
          <a:stretch/>
        </p:blipFill>
        <p:spPr>
          <a:xfrm>
            <a:off x="-36360" y="6480"/>
            <a:ext cx="8924760" cy="14443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304920" y="12952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граммы-доктора или фаги, а также программы-вакцины не только находят зараженные вирусами файлы, но и «лечат» их, то есть удаляют из файла тело программы-вируса, возвращая файлы в исходное состояние. В начале своей работы фаги ищут вирусы в оперативной памяти, уничтожая их, и только затем переходят к «лечению» файлов. Среди фагов выделяют полифаги, то есть программы-доктора, предназначенные для поиска и уничтожения большого количества вирусов. Учитывая, что постоянно появляются новые вирусы, программы-детекторы и программы-доктора быстро устаревают, и требуется регулярное обновление верси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C:\Users\User\Desktop\4.jpg"/>
          <p:cNvPicPr/>
          <p:nvPr/>
        </p:nvPicPr>
        <p:blipFill>
          <a:blip r:embed="rId1"/>
          <a:stretch/>
        </p:blipFill>
        <p:spPr>
          <a:xfrm>
            <a:off x="5572080" y="2813040"/>
            <a:ext cx="3556080" cy="402912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-360" y="1218960"/>
            <a:ext cx="8915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граммы-ревизоры (инспектора) относятся к самым надежным средствам защиты от вирусов. Ревизоры (инспектора) проверяют данные на диске на предмет вирусов-невидимок, изучают, не забрался ли вирус в файлы, нет ли посторонних в загрузочном секторе жесткого диска, нет ли несанкционированных изменений реестра Windows. Причем инспектор может не пользоваться средствами операционной системы для обращения к дискам (а значит, активный вирус не сможет это обращение перехватить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C:\Users\User\Desktop\5.jpg"/>
          <p:cNvPicPr/>
          <p:nvPr/>
        </p:nvPicPr>
        <p:blipFill>
          <a:blip r:embed="rId1"/>
          <a:srcRect l="0" t="10624" r="0" b="10624"/>
          <a:stretch/>
        </p:blipFill>
        <p:spPr>
          <a:xfrm>
            <a:off x="2568600" y="2716200"/>
            <a:ext cx="4457520" cy="3510000"/>
          </a:xfrm>
          <a:prstGeom prst="rect">
            <a:avLst/>
          </a:prstGeom>
          <a:ln w="0">
            <a:noFill/>
          </a:ln>
        </p:spPr>
      </p:pic>
      <p:pic>
        <p:nvPicPr>
          <p:cNvPr id="289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-360" y="11430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граммы-фильтры (мониторы) или «сторожа» представляют собой небольшие резидентные программы, предназначенные для обнаружения подозрительных действий при работе компьютера, характерных для вирусов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1" name="Picture 2" descr="C:\Users\User\Desktop\2.jpg"/>
          <p:cNvPicPr/>
          <p:nvPr/>
        </p:nvPicPr>
        <p:blipFill>
          <a:blip r:embed="rId3"/>
          <a:stretch/>
        </p:blipFill>
        <p:spPr>
          <a:xfrm>
            <a:off x="-7620120" y="-876312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C:\Users\User\Desktop\2.jpg"/>
          <p:cNvPicPr/>
          <p:nvPr/>
        </p:nvPicPr>
        <p:blipFill>
          <a:blip r:embed="rId1"/>
          <a:srcRect l="27660" t="3727" r="24445" b="0"/>
          <a:stretch/>
        </p:blipFill>
        <p:spPr>
          <a:xfrm>
            <a:off x="6858000" y="2293920"/>
            <a:ext cx="2286000" cy="4564080"/>
          </a:xfrm>
          <a:prstGeom prst="rect">
            <a:avLst/>
          </a:prstGeom>
          <a:ln w="0">
            <a:noFill/>
          </a:ln>
        </p:spPr>
      </p:pic>
      <p:pic>
        <p:nvPicPr>
          <p:cNvPr id="293" name="Rectangle 2" descr=""/>
          <p:cNvPicPr/>
          <p:nvPr/>
        </p:nvPicPr>
        <p:blipFill>
          <a:blip r:embed="rId2"/>
          <a:stretch/>
        </p:blipFill>
        <p:spPr>
          <a:xfrm>
            <a:off x="993600" y="6480"/>
            <a:ext cx="7010640" cy="1444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380880" y="11426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 algn="just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езидентные программы, предотвращающие заражение файлов. Вакцины применяют, если отсутствуют программы-доктора, «лечащие» этот вирус. Вакцинация возможна только от известных вирусов. Вакцина модифицирует программу или диск таким образом, чтобы это не отражалось на их работе, а вирус будет воспринимать их зараженными и поэтому не внедрится. В настоящее время программы-вакцины имеют ограниченное применени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457200" y="-109440"/>
            <a:ext cx="8448840" cy="1444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348920"/>
            <a:ext cx="822960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Avast! 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— антивирусная программа для операционных систем Windows, Mac OS, а также для КПК на платформе Palm, Android и Windows CE.  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Антивирус Касперского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 — антивирусное программное обеспечение, разрабатываемое Лабораторией Касперского. Предоставляет пользователю защиту от вирусов, троянских программ, шпионских программ, руткитов, adware, а также неизвестных угроз с помощью проактивной защиты, включающей компонент HIPS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Agnitum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 — российская компания-производитель программного обеспечения в области безопасности персонального компьютера. Наиболее известный продукт Agnitum — персональный файрвол Outpost Firewall Pro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Dr.Web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 ( </a:t>
            </a:r>
            <a:r>
              <a:rPr b="1" lang="ru-RU" sz="1600" spc="-1" strike="noStrike">
                <a:solidFill>
                  <a:srgbClr val="404040"/>
                </a:solidFill>
                <a:latin typeface="Comic Sans MS"/>
              </a:rPr>
              <a:t>Доктор Веб</a:t>
            </a:r>
            <a:r>
              <a:rPr b="0" lang="ru-RU" sz="1600" spc="-1" strike="noStrike">
                <a:solidFill>
                  <a:srgbClr val="404040"/>
                </a:solidFill>
                <a:latin typeface="Comic Sans MS"/>
              </a:rPr>
              <a:t>) — общее название семейства программного антивирусного ПО для различных платформ (Windows, OS X, Linux, мобильные платформы) и линейки программно-аппаратных решений (Dr.Web Office Shield), а также решений для обеспечения безопасности всех узлов корпоративной сет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7" name="Picture 4" descr="167dc6739424c74060c0c43749c77bde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121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AV_small_print"/>
          <p:cNvPicPr/>
          <p:nvPr/>
        </p:nvPicPr>
        <p:blipFill>
          <a:blip r:embed="rId3"/>
          <a:stretch/>
        </p:blipFill>
        <p:spPr>
          <a:xfrm>
            <a:off x="2819520" y="5181480"/>
            <a:ext cx="1103040" cy="1524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t1@6b519d54-c296-4e3b-b5d5-2444f8394847"/>
          <p:cNvPicPr/>
          <p:nvPr/>
        </p:nvPicPr>
        <p:blipFill>
          <a:blip r:embed="rId4"/>
          <a:stretch/>
        </p:blipFill>
        <p:spPr>
          <a:xfrm>
            <a:off x="4495680" y="5181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t1@e3fa3824-f156-4e61-90c0-49f4b50d66d0"/>
          <p:cNvPicPr/>
          <p:nvPr/>
        </p:nvPicPr>
        <p:blipFill>
          <a:blip r:embed="rId5"/>
          <a:stretch/>
        </p:blipFill>
        <p:spPr>
          <a:xfrm>
            <a:off x="6934320" y="51814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8"/>
          <p:cNvSpPr/>
          <p:nvPr/>
        </p:nvSpPr>
        <p:spPr>
          <a:xfrm>
            <a:off x="7696080" y="762120"/>
            <a:ext cx="990720" cy="685800"/>
          </a:xfrm>
          <a:prstGeom prst="sun">
            <a:avLst>
              <a:gd name="adj" fmla="val 25000"/>
            </a:avLst>
          </a:prstGeom>
          <a:solidFill>
            <a:srgbClr val="59a8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1298520" y="30240"/>
            <a:ext cx="6510240" cy="1493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219320" y="190476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Компьютерный вирус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Виды компьютерных вирус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Антивирусная программа -  это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Виды антивирусных програм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omic Sans MS"/>
              </a:rPr>
              <a:t>Примеры антивирусных програм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1292400" y="944640"/>
            <a:ext cx="6535440" cy="1493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Users\User\Desktop\8.jpg"/>
          <p:cNvPicPr/>
          <p:nvPr/>
        </p:nvPicPr>
        <p:blipFill>
          <a:blip r:embed="rId2"/>
          <a:stretch/>
        </p:blipFill>
        <p:spPr>
          <a:xfrm>
            <a:off x="746280" y="2514600"/>
            <a:ext cx="76197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комп вирус"/>
          <p:cNvPicPr/>
          <p:nvPr/>
        </p:nvPicPr>
        <p:blipFill>
          <a:blip r:embed="rId1"/>
          <a:stretch/>
        </p:blipFill>
        <p:spPr>
          <a:xfrm>
            <a:off x="3276720" y="4309920"/>
            <a:ext cx="279864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2" descr=""/>
          <p:cNvPicPr/>
          <p:nvPr/>
        </p:nvPicPr>
        <p:blipFill>
          <a:blip r:embed="rId2"/>
          <a:stretch/>
        </p:blipFill>
        <p:spPr>
          <a:xfrm>
            <a:off x="231840" y="-122400"/>
            <a:ext cx="8229600" cy="1494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5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Компью́терный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ви́рус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— вид вредоносного программного обеспечения, способного внедряться в код других программ, системные области памяти, загрузочные секторы, и распространять свои копии по разнообразным каналам связи. Основная цель </a:t>
            </a: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вируса</a:t>
            </a: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 — его распространение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762120" y="4800600"/>
            <a:ext cx="609480" cy="990720"/>
          </a:xfrm>
          <a:prstGeom prst="upArrow">
            <a:avLst>
              <a:gd name="adj1" fmla="val 50000"/>
              <a:gd name="adj2" fmla="val 40638"/>
            </a:avLst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378080" y="341280"/>
            <a:ext cx="6802200" cy="12924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685800" y="457200"/>
            <a:ext cx="7924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85800" y="1371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8610480" y="1295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1523880" y="13716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2209680" y="1371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2971800" y="1371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3809880" y="13716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4724280" y="1371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5638680" y="1371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6400800" y="1371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0"/>
          <p:cNvSpPr/>
          <p:nvPr/>
        </p:nvSpPr>
        <p:spPr>
          <a:xfrm>
            <a:off x="7086600" y="1371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>
            <a:off x="7894800" y="1447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229320" y="2971080"/>
            <a:ext cx="86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в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914400" y="51040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оянская програм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1744560" y="4486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3200400" y="5180400"/>
            <a:ext cx="137160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шпи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1756800" y="3839040"/>
            <a:ext cx="88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нн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2362320" y="289476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грузочные виру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4191480" y="32756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спло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8114040" y="2666160"/>
            <a:ext cx="10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арм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0"/>
          <p:cNvSpPr/>
          <p:nvPr/>
        </p:nvSpPr>
        <p:spPr>
          <a:xfrm>
            <a:off x="5943600" y="23616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ш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6324480" y="5486040"/>
            <a:ext cx="1570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пионское П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7549560" y="3428280"/>
            <a:ext cx="83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тк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4722840" y="4571640"/>
            <a:ext cx="2082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вир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5"/>
          <p:cNvSpPr/>
          <p:nvPr/>
        </p:nvSpPr>
        <p:spPr>
          <a:xfrm>
            <a:off x="304920" y="60199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img3"/>
          <p:cNvPicPr/>
          <p:nvPr/>
        </p:nvPicPr>
        <p:blipFill>
          <a:blip r:embed="rId1"/>
          <a:stretch/>
        </p:blipFill>
        <p:spPr>
          <a:xfrm>
            <a:off x="2743200" y="3886200"/>
            <a:ext cx="3749760" cy="281160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2" descr=""/>
          <p:cNvPicPr/>
          <p:nvPr/>
        </p:nvPicPr>
        <p:blipFill>
          <a:blip r:embed="rId2"/>
          <a:stretch/>
        </p:blipFill>
        <p:spPr>
          <a:xfrm>
            <a:off x="0" y="-85680"/>
            <a:ext cx="8229600" cy="1549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899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just">
              <a:lnSpc>
                <a:spcPct val="130000"/>
              </a:lnSpc>
              <a:spcBef>
                <a:spcPts val="47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omic Sans MS"/>
              </a:rPr>
              <a:t> </a:t>
            </a:r>
            <a:r>
              <a:rPr b="0" lang="ru-RU" sz="1900" spc="-1" strike="noStrike">
                <a:solidFill>
                  <a:srgbClr val="404040"/>
                </a:solidFill>
                <a:latin typeface="Comic Sans MS"/>
              </a:rPr>
              <a:t>вредоносная программа, целью которой является забить компьютер всяким мусором для того, чтобы он стал медленным и неуклюжим. Червь способен саморазмножаться, но не может быть частью программы. Чаще всего заражение этим вирусом происходит посредством электронных писем.</a:t>
            </a:r>
            <a:br>
              <a:rPr sz="1900"/>
            </a:b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0" y="-128520"/>
            <a:ext cx="8772480" cy="2232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эта программа полностью оправдывает свое название. Она проникает в другие программы и скрывается там до момента, когда программа-хозяин будет запущена. До запуска хозяйской программы вирус не может нанести вред. Чаще всего троянский конь используется для удаления, изменения или кражи данных. Самостоятельно размножатся троян не может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5" name="Picture 6" descr="cb85c657207ed93ed44a4f9b0b5d894a"/>
          <p:cNvPicPr/>
          <p:nvPr/>
        </p:nvPicPr>
        <p:blipFill>
          <a:blip r:embed="rId2"/>
          <a:stretch/>
        </p:blipFill>
        <p:spPr>
          <a:xfrm>
            <a:off x="4572000" y="3962520"/>
            <a:ext cx="3813120" cy="2738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304920" y="-12852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эти Штирлицы занимаются сбором информации о пользователе и его действиях. Чаще всего они воруют конфиденциальную информацию: пароли, адреса, номера карт/счетов и т. д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Зомби – такое название вредоносные программы получили, оттого, что и в самом деле делают из компьютера «безвольную» машину, подчиняющуюся злоумышленникам. Проще говоря, нехорошие люди могут управлять чьим-либо компьютером посредством этих вредоносных программ. Чаще всего пользователь даже не знает, что его компьютер уже не только ег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Picture 6" descr="spying-laptop"/>
          <p:cNvPicPr/>
          <p:nvPr/>
        </p:nvPicPr>
        <p:blipFill>
          <a:blip r:embed="rId2"/>
          <a:stretch/>
        </p:blipFill>
        <p:spPr>
          <a:xfrm>
            <a:off x="838080" y="4267080"/>
            <a:ext cx="3048120" cy="2136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nx_PI_XoJo"/>
          <p:cNvPicPr/>
          <p:nvPr/>
        </p:nvPicPr>
        <p:blipFill>
          <a:blip r:embed="rId3"/>
          <a:stretch/>
        </p:blipFill>
        <p:spPr>
          <a:xfrm>
            <a:off x="4648320" y="411480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311040" y="-128520"/>
            <a:ext cx="8985240" cy="1542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38088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7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Comic Sans MS"/>
              </a:rPr>
              <a:t>эти программы блокируют доступ к операционной системе. При включении компьютера пользователь видит всплывающее окно, в котором обычно его в чем-то обвиняют: нарушении авторских прав или скачивании пиратского программного обеспечения. Далее, следуют угрозы полного удаления всей информации с компьютера. Для того чтобы этого избежать пользователь должен пополнить счет определенного телефона или отослать СМС. Только вот, даже если пользователь проделает все эти операции, баннер с угрозами никуда не денетс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2" name="Picture 7" descr="Trojan"/>
          <p:cNvPicPr/>
          <p:nvPr/>
        </p:nvPicPr>
        <p:blipFill>
          <a:blip r:embed="rId2"/>
          <a:stretch/>
        </p:blipFill>
        <p:spPr>
          <a:xfrm>
            <a:off x="2362320" y="3657600"/>
            <a:ext cx="4572000" cy="2666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762120" y="-55440"/>
            <a:ext cx="6791040" cy="1549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поражают загрузочный сектор винчестера (жесткого диска). Их целью является существенное замедление процесса загрузки операционной системы. После длительного воздействия этих вирусов на компьютер существует большая вероятность не загрузить операционную систему совсем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5" name="Picture 4" descr="img3 (1)"/>
          <p:cNvPicPr/>
          <p:nvPr/>
        </p:nvPicPr>
        <p:blipFill>
          <a:blip r:embed="rId2"/>
          <a:stretch/>
        </p:blipFill>
        <p:spPr>
          <a:xfrm>
            <a:off x="2743200" y="33526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3T10:26:07Z</dcterms:created>
  <dc:creator>1 курс</dc:creator>
  <dc:description/>
  <dc:language>en-US</dc:language>
  <cp:lastModifiedBy>User</cp:lastModifiedBy>
  <dcterms:modified xsi:type="dcterms:W3CDTF">2021-03-10T09:15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